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D51F-4A07-42CD-8194-E7C32EE7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94E2-6BD7-44DA-AEF3-891792BC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FF06-1B6F-4ABC-8600-89E608BF7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894C-D62E-44B0-8854-74BC4901C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720F-F478-4D7D-9535-803EA4E8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A6DE-4C92-4C54-8CBC-3787D527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48DA-0EDE-4697-BFEF-4A909148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AC9D-E0BB-4745-BD2D-5269C133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0AFE-719C-493C-A292-68715834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4D79-E274-4782-BE53-F53159CF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8398-C0F9-4175-A9F2-37BEDC42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FDD9-415F-44D6-AE4D-CBA4E919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01B4BC-22A8-4589-8B9B-F4218D4B1C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DDD70D-37CF-43CB-84F5-8CE29A8B7C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yslideshare is working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@prabhu-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2:01:07Z</dcterms:created>
  <dc:creator>Prabhu</dc:creator>
  <dc:description/>
  <dc:language>en-US</dc:language>
  <cp:lastModifiedBy>Prabhu</cp:lastModifiedBy>
  <dcterms:modified xsi:type="dcterms:W3CDTF">2008-05-30T02:02:00Z</dcterms:modified>
  <cp:revision>1</cp:revision>
  <dc:subject/>
  <dc:title>Pyslideshare is working!</dc:title>
</cp:coreProperties>
</file>