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D517-7B49-4C2C-95CC-B7165789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EB54-320E-46F9-8FB4-3F385B07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7F08-3028-4FEF-BB6D-ED12D800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DB98-2FB6-41EF-A732-AEDFD6FC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0843-1DB4-45C0-9F10-CA1B4BDF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B6EF-8DCE-404C-A6AC-7E50CC0D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45EE-4222-4AD1-AA15-F3DB2322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669A-AA6B-4866-BFA7-59C4921C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970D-A27A-4B64-8A20-5EE20029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4E01-DEA1-4526-931B-2DF59400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E8CC-39A6-46D4-BDCF-20E70C08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E65-8DE5-483E-8894-A8992AAA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650E4-2C08-4008-8CFB-E7DE1D5E3E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627C60-DCFE-4BFA-B755-E6BA4EAC5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slideshare is wor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@prabhu-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01:07Z</dcterms:created>
  <dc:creator>Prabhu</dc:creator>
  <dc:description/>
  <dc:language>en-US</dc:language>
  <cp:lastModifiedBy>Prabhu</cp:lastModifiedBy>
  <dcterms:modified xsi:type="dcterms:W3CDTF">2008-05-30T02:02:00Z</dcterms:modified>
  <cp:revision>1</cp:revision>
  <dc:subject/>
  <dc:title>Pyslideshare is working!</dc:title>
</cp:coreProperties>
</file>