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BE2-5695-4F02-B599-4D93F2FC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418-B021-47B7-91F4-BA4E6F8C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9E2-F0F9-4343-BBDF-BA0334FE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125-556A-45FB-9BFE-6B6BCE7B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F7B-FACB-4721-9EBD-8FE46EE2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677-F7B9-4AD1-BE6B-582C9932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923-9F7B-48E9-99C9-77295CE1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FDE-DAC9-49BF-BBC4-9824C7E7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E88-837E-4EDB-AF80-35300DFA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B0D-1906-49BC-A472-73D7EF4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9A1-9E03-42B0-B403-6D40F72E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C08-00BF-40F4-9327-7F0FC4F3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2855-115B-42A6-ACAC-156DCB8A1872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72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tMapper is a gps navigation application that can be used with Maemo based de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tMapper is implemented with Qt library. It can be easily ported for  devices which have the Qt and gps cap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ture featu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o FreeRunner(OpenMoko)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ice nav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Qt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[ pronounced cute] is a cross-platform application framework. Using Qt, you can develop applications and user interfaces once, and deploy them across many desktop and embedded operating systems without rewriting the source code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 http://trolltech.com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igation current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s download from OpenStreetM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 Of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ps support for the N810 internal and external bluetooth G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6" descr="route1.png"/>
          <p:cNvPicPr/>
          <p:nvPr/>
        </p:nvPicPr>
        <p:blipFill>
          <a:blip r:embed="rId2"/>
          <a:stretch/>
        </p:blipFill>
        <p:spPr>
          <a:xfrm>
            <a:off x="3575160" y="1584360"/>
            <a:ext cx="5111640" cy="3230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You can add your own points of interests or download predefined points from the we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6" descr="route1.png"/>
          <p:cNvPicPr/>
          <p:nvPr/>
        </p:nvPicPr>
        <p:blipFill>
          <a:blip r:embed="rId2"/>
          <a:stretch/>
        </p:blipFill>
        <p:spPr>
          <a:xfrm>
            <a:off x="3575160" y="1584360"/>
            <a:ext cx="5111640" cy="3230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300816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You can use selected area´s maps without internet connection by downloading them before your tri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lehtoan\My Documents\MapperPresentation\bkg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QtMap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tMapper is implemented by Linux Course group members to improve skills with Qt and Linux programming and to train new Linux specialists for the Ixon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7:43Z</dcterms:created>
  <dc:creator>koe</dc:creator>
  <dc:description/>
  <dc:language>en-US</dc:language>
  <cp:lastModifiedBy>koe</cp:lastModifiedBy>
  <dcterms:modified xsi:type="dcterms:W3CDTF">2008-11-11T10:23:59Z</dcterms:modified>
  <cp:revision>35</cp:revision>
  <dc:subject/>
  <dc:title>QtMapper</dc:title>
</cp:coreProperties>
</file>