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3CD2-0BB4-4BFE-AD8E-3CE92AF9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B674-9CD6-4FC4-9493-2B2FF336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C2C0-DD32-4155-AB0C-06AF5580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D372-C168-4D99-BCA7-F0C81D7E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3A9D-9610-42FB-9F16-6FEA8E90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FEDF-4832-4A31-8AAF-F743D1A2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D00-D188-42E7-B34B-24383A04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835C-5F42-4F13-A4C0-65682CF3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1C27-1FD0-433D-A8DF-4561859C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28FC-72AD-4639-B6AB-DB3D4D48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549E-BF06-4519-A4C3-49228F1A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E3BB-0BCF-47AB-B1A9-C2A95008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CC701-5DA5-4B92-9528-EA46394C68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F715C-8ABE-4192-8DF0-D283B4E67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slideshare is wor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@prabhu-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01:07Z</dcterms:created>
  <dc:creator>Prabhu</dc:creator>
  <dc:description/>
  <dc:language>en-US</dc:language>
  <cp:lastModifiedBy>Prabhu</cp:lastModifiedBy>
  <dcterms:modified xsi:type="dcterms:W3CDTF">2008-05-30T02:02:00Z</dcterms:modified>
  <cp:revision>1</cp:revision>
  <dc:subject/>
  <dc:title>Pyslideshare is working!</dc:title>
</cp:coreProperties>
</file>