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46CFE-5448-4F79-9970-E20185ED1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75F9E-0F26-41BC-85AB-8A35F5E8C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D7C56-45AA-4DE2-9AD4-BF4E8A5D2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C19E1-48B2-43A5-900A-411B3659A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E9806-B6B3-4730-BD77-48670170B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CCC59-BF6C-4120-B042-15595C90C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BF08D-0033-4F28-BB28-6F6929F55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62EC5-073E-4217-A64B-1CCA605F6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F44EB-022D-4E93-BDB3-F2FFBA1F2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46965-023D-4516-9EBA-69ABAC4D2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5C1AB-01BE-413A-B92E-11FB5D832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07F4F-3383-4AD7-B763-7A7F079D2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EA81A-EA44-427C-9A55-A751F0CEC8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 Something for the macr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0T14:57:39Z</dcterms:created>
  <dc:creator>cxoffice-XP</dc:creator>
  <dc:description/>
  <dc:language>en-US</dc:language>
  <cp:lastModifiedBy>cxoffice-XP</cp:lastModifiedBy>
  <dcterms:modified xsi:type="dcterms:W3CDTF">2006-11-10T14:58:15Z</dcterms:modified>
  <cp:revision>1</cp:revision>
  <dc:subject/>
  <dc:title>Do Something for the macro</dc:title>
</cp:coreProperties>
</file>