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B9EE-674D-4BCE-AFC7-1C37B8334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90CE-4570-45D9-BF05-95E3E9189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B48C-A8EE-43D6-AB2E-27499EA56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A337-CD93-402B-B5B1-087BE36B9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6E9F-F692-40E3-BDB6-E5F51BF09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EADE-3DCB-4F29-ADE9-E1C348777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555F-67C4-444E-AB6A-9B453FB15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5656-D407-4156-B17D-2D127DBF3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927D-F894-402E-9837-6AA462460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1497-6D7C-4268-91F4-85D83376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0DB5-EE30-43E6-9D83-AC1528CF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D5A7-8A61-4916-9025-7D62B19C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C6AD9F-C971-4265-9B2B-F02B0B1F469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5EFE22-4168-4A6E-8EA7-FD6B4ED00C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yslideshare is working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rabh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rabhu@prabhu-s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0T02:01:07Z</dcterms:created>
  <dc:creator>Prabhu</dc:creator>
  <dc:description/>
  <dc:language>en-US</dc:language>
  <cp:lastModifiedBy>Prabhu</cp:lastModifiedBy>
  <dcterms:modified xsi:type="dcterms:W3CDTF">2008-05-30T02:02:00Z</dcterms:modified>
  <cp:revision>1</cp:revision>
  <dc:subject/>
  <dc:title>Pyslideshare is working!</dc:title>
</cp:coreProperties>
</file>