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700-8C9F-449C-B472-E66FB63E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487-1657-43AC-A998-4FCEB0EF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6A0A-0642-47E1-8949-03AE18E5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4C7-9C0D-472E-A930-3AFEBBEC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E6E-D7DF-49FE-A597-4F2BC187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D92A-0362-4CED-8C87-E97A4F0C7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0F3-E2D5-4A52-94AD-569EC643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C3D-820D-4CDF-A858-8CE53E94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B13-CA83-4AE0-9328-2E8FF0AE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78E-8F88-4D94-AEEF-79F4B0BF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CDF4-2DFF-4114-BEEB-25EA3A08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32A-9B75-4888-9460-5C6834D0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917CF-C1BD-4D19-9347-25B352CAFC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DFE28-4A17-4A55-B6A4-2AC61FC04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yslideshare is work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rabhu@prabhu-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02:01:07Z</dcterms:created>
  <dc:creator>Prabhu</dc:creator>
  <dc:description/>
  <dc:language>en-US</dc:language>
  <cp:lastModifiedBy>Prabhu</cp:lastModifiedBy>
  <dcterms:modified xsi:type="dcterms:W3CDTF">2008-05-30T02:02:00Z</dcterms:modified>
  <cp:revision>1</cp:revision>
  <dc:subject/>
  <dc:title>Pyslideshare is working!</dc:title>
</cp:coreProperties>
</file>